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png" ContentType="image/png"/>
  <Override PartName="/ppt/media/image13.gif" ContentType="image/gif"/>
  <Override PartName="/ppt/media/image5.png" ContentType="image/png"/>
  <Override PartName="/ppt/media/wayoff.wav" ContentType="audio/x-wav"/>
  <Override PartName="/ppt/media/Yippee3.wav" ContentType="audio/x-wav"/>
  <Override PartName="/ppt/media/image2.jpeg" ContentType="image/jpeg"/>
  <Override PartName="/ppt/media/image3.jpeg" ContentType="image/jpeg"/>
  <Override PartName="/ppt/media/goodnite1.wav" ContentType="audio/x-wav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51A-B418-4ACD-804D-35C8115E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8F6-F375-49F0-810C-DE3C6A3D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A9D-B464-48CC-BEAE-7EC73ACA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B30-8645-4556-8960-1C45DCCC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F1A-091A-4E0A-8028-9743415B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713-8FCF-48B1-9BE7-EDE2C788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FD4-FF37-4594-809E-25DB66CA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3AC-409B-425B-A81E-55C1BB88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998-AD81-4689-B9B6-EF741052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DA5-CA03-4F59-8843-AA710A4A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320-66A7-4D99-B2DB-CC66EDA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3B2-6201-4A05-AA85-E4DD82C6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578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lbert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lbert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lbert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lbert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lbert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lbertu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3C0-A728-4CAF-A27A-DA2A7AD60C33}" type="slidenum">
              <a:rPr b="0" lang="en-US" sz="1400" spc="-1" strike="noStrike">
                <a:solidFill>
                  <a:srgbClr val="ffffff"/>
                </a:solidFill>
                <a:latin typeface="Albertu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goodnite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1d1cb"/>
                </a:solidFill>
                <a:latin typeface="Albertus"/>
              </a:rPr>
              <a:t>Théorie des couleurs</a:t>
            </a:r>
            <a:endParaRPr b="0" lang="en-US" sz="96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Explorons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Directions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"/>
              </a:rPr>
              <a:t>Read each question or statement carefully</a:t>
            </a: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"/>
              </a:rPr>
              <a:t>Pick an answer</a:t>
            </a: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"/>
              </a:rPr>
              <a:t>If you choose a wrong answer, click the arrow key to return to the question</a:t>
            </a: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"/>
              </a:rPr>
              <a:t>If you choose the correct answer, click the arrow key to move on to the next question</a:t>
            </a: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70" name="Picture 4" descr="stoplight"/>
          <p:cNvPicPr/>
          <p:nvPr/>
        </p:nvPicPr>
        <p:blipFill>
          <a:blip r:embed="rId1"/>
          <a:stretch/>
        </p:blipFill>
        <p:spPr>
          <a:xfrm>
            <a:off x="5867280" y="2209680"/>
            <a:ext cx="1347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Les couleurs primaires sont: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Jaune, vert et noir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2" action="ppaction://hlinksldjump"/>
              </a:rPr>
              <a:t>Bleu, rouge et jaune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3" action="ppaction://hlinksldjump"/>
              </a:rPr>
              <a:t>Orange, violet et vert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74" name="Picture 4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77" name="Picture 4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lbertus"/>
              </a:rPr>
              <a:t>Qui a joué un rôle dans l’histoire de la théorie des couleurs?</a:t>
            </a:r>
            <a:endParaRPr b="0" lang="en-US" sz="40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Bridgette Riley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lbertus"/>
                <a:hlinkClick r:id="rId2" action="ppaction://hlinksldjump"/>
              </a:rPr>
              <a:t>Faith Ringgold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lbertus"/>
                <a:hlinkClick r:id="rId3" action="ppaction://hlinksldjump"/>
              </a:rPr>
              <a:t>Leonardo da Vinci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82" name="Picture 3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e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85" name="Picture 3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Albertus"/>
              </a:rPr>
              <a:t>Les couleurs analogues sont créées en mélangeant des couleurs opposées sur le cercle chromatique. </a:t>
            </a:r>
            <a:endParaRPr b="0" lang="en-US" sz="36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Vrai/True</a:t>
            </a:r>
            <a:endParaRPr b="0" lang="en-US" sz="40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lbertus"/>
                <a:hlinkClick r:id="rId2" action="ppaction://hlinksldjump"/>
              </a:rPr>
              <a:t>Faux/False</a:t>
            </a:r>
            <a:endParaRPr b="0" lang="en-US" sz="40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90" name="Picture 3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e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93" name="Picture 3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d1cb"/>
                </a:solidFill>
                <a:latin typeface="Albertus"/>
              </a:rPr>
              <a:t>Introduction</a:t>
            </a:r>
            <a:endParaRPr b="0" lang="en-US" sz="80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lbertus"/>
              </a:rPr>
              <a:t>Théorie des couleurs…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is a body of practical guidance to color mixing and the visual impact of specific color combinations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Color theory principles first appear in the writings of Alberti (c.1435) and the notebooks of Leonardo da Vinci(c.1490),  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lbertus"/>
              </a:rPr>
              <a:t>L’image du soleil est un example de couleur…?</a:t>
            </a:r>
            <a:endParaRPr b="0" lang="en-US" sz="40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Chaude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2" action="ppaction://hlinksldjump"/>
              </a:rPr>
              <a:t>Froide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3" action="ppaction://hlinksldjump"/>
              </a:rPr>
              <a:t>Primaire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97" name="Picture 4" descr="sun4"/>
          <p:cNvPicPr/>
          <p:nvPr/>
        </p:nvPicPr>
        <p:blipFill>
          <a:blip r:embed="rId4"/>
          <a:stretch/>
        </p:blipFill>
        <p:spPr>
          <a:xfrm>
            <a:off x="3962520" y="1905120"/>
            <a:ext cx="361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99" name="Picture 3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e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102" name="Picture 3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lbertus"/>
              </a:rPr>
              <a:t>Une couleur primaire mélangée à une couleur secondaire est:</a:t>
            </a:r>
            <a:endParaRPr b="0" lang="en-US" sz="40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Couleur complementaire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lbertus"/>
              </a:rPr>
              <a:t>Couleur analogue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lbertus"/>
              </a:rPr>
              <a:t>Couleur tertiaire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107" name="Picture 3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e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110" name="Picture 3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4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Pour plus d’informations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85800" y="1981080"/>
            <a:ext cx="73152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bbc.co.uk/cbbc/art/activities/games/factory.html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thetech.org/exhibits/online/color/overview/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learner.org/teacherslab/science/light/color/dots/index.html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atelier-salamandre.net/cours-couleur.html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sarljuliac.fr/chromatique.html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295280" y="175248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lbertus"/>
              </a:rPr>
              <a:t>Merci!</a:t>
            </a:r>
            <a:endParaRPr b="0" lang="en-US" sz="80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Albertus"/>
              </a:rPr>
              <a:t>Couleurs primaires</a:t>
            </a:r>
            <a:endParaRPr b="0" lang="en-US" sz="60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46" name="Picture 10" descr="MPj04306220000[1]"/>
          <p:cNvPicPr/>
          <p:nvPr/>
        </p:nvPicPr>
        <p:blipFill>
          <a:blip r:embed="rId1"/>
          <a:stretch/>
        </p:blipFill>
        <p:spPr>
          <a:xfrm>
            <a:off x="457200" y="1447920"/>
            <a:ext cx="3505320" cy="232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MPj04020730000[1]"/>
          <p:cNvPicPr/>
          <p:nvPr/>
        </p:nvPicPr>
        <p:blipFill>
          <a:blip r:embed="rId2"/>
          <a:stretch/>
        </p:blipFill>
        <p:spPr>
          <a:xfrm>
            <a:off x="5715000" y="1447920"/>
            <a:ext cx="267192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MPj04229590000[1]"/>
          <p:cNvPicPr/>
          <p:nvPr/>
        </p:nvPicPr>
        <p:blipFill>
          <a:blip r:embed="rId3"/>
          <a:stretch/>
        </p:blipFill>
        <p:spPr>
          <a:xfrm>
            <a:off x="3352680" y="4114800"/>
            <a:ext cx="2697120" cy="2187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609480" y="403848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lbertus"/>
              </a:rPr>
              <a:t>Rouge Jaune  et Bleu</a:t>
            </a:r>
            <a:endParaRPr b="0" lang="en-US" sz="44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1d1cb"/>
                </a:solidFill>
                <a:latin typeface="Albertus"/>
              </a:rPr>
              <a:t>Couleurs secondaires</a:t>
            </a:r>
            <a:endParaRPr b="0" lang="en-US" sz="66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081080" y="2438280"/>
            <a:ext cx="261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lbertus"/>
              </a:rPr>
              <a:t>Orange</a:t>
            </a:r>
            <a:endParaRPr b="0" lang="en-US" sz="5400" spc="-1" strike="noStrike">
              <a:solidFill>
                <a:srgbClr val="ffffff"/>
              </a:solidFill>
              <a:latin typeface="Albert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Albertus"/>
              </a:rPr>
              <a:t>Vert</a:t>
            </a:r>
            <a:endParaRPr b="0" lang="en-US" sz="5400" spc="-1" strike="noStrike">
              <a:solidFill>
                <a:srgbClr val="ffffff"/>
              </a:solidFill>
              <a:latin typeface="Albert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lbertus"/>
              </a:rPr>
              <a:t>Violet</a:t>
            </a:r>
            <a:endParaRPr b="0" lang="en-US" sz="5400" spc="-1" strike="noStrike">
              <a:solidFill>
                <a:srgbClr val="ffffff"/>
              </a:solidFill>
              <a:latin typeface="Albert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685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53" name="Picture 10" descr="http://www.conceptdecors16.com/images/1couleurs.gif"/>
          <p:cNvPicPr/>
          <p:nvPr/>
        </p:nvPicPr>
        <p:blipFill>
          <a:blip r:embed="rId1"/>
          <a:stretch/>
        </p:blipFill>
        <p:spPr>
          <a:xfrm>
            <a:off x="5099040" y="2470320"/>
            <a:ext cx="68580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Albertus"/>
              </a:rPr>
              <a:t>Couleurs tertiaires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ormed by mixing a primary and a secondary colour 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Jaune-orange, rouge-orange, red-violet, bleu-violet, bleu-vert and vert-jaune 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56" name="Picture 5" descr="couleurs tertiaires.png"/>
          <p:cNvPicPr/>
          <p:nvPr/>
        </p:nvPicPr>
        <p:blipFill>
          <a:blip r:embed="rId1"/>
          <a:stretch/>
        </p:blipFill>
        <p:spPr>
          <a:xfrm>
            <a:off x="2514600" y="3762360"/>
            <a:ext cx="4486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Albertus"/>
              </a:rPr>
              <a:t>Couleurs analogues</a:t>
            </a:r>
            <a:endParaRPr b="0" lang="en-US" sz="60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58" name="Picture 4" descr="ctheory_leaf"/>
          <p:cNvPicPr/>
          <p:nvPr/>
        </p:nvPicPr>
        <p:blipFill>
          <a:blip r:embed="rId1"/>
          <a:stretch/>
        </p:blipFill>
        <p:spPr>
          <a:xfrm>
            <a:off x="609480" y="1600200"/>
            <a:ext cx="7239240" cy="2413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73160" y="4327200"/>
            <a:ext cx="897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Les couleurs analogues sont… any three colours which are side by side on a 12 part color wheel (roue de couleurs chromatiques)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1d1cb"/>
                </a:solidFill>
                <a:latin typeface="Albertus"/>
              </a:rPr>
              <a:t>Couleurs complémentaires</a:t>
            </a:r>
            <a:endParaRPr b="0" lang="en-US" sz="48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61" name="Picture 4" descr="ctheory_orchid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2819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85800" y="43434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lbertus"/>
              </a:rPr>
              <a:t>Les couleurs complémentaires sont…any two colors which are directly opposite each other </a:t>
            </a:r>
            <a:endParaRPr b="0" lang="en-US" sz="36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cb"/>
                </a:solidFill>
                <a:latin typeface="Albertus"/>
              </a:rPr>
              <a:t>Tons chauds et froids</a:t>
            </a:r>
            <a:endParaRPr b="0" lang="en-US" sz="5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Couleurs chaudes– rouge, jaune, brun et beige 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Couleurs froides- bleu, vert, bleu-vert, bleu- violet, et gris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65" name="Picture 4" descr="sun-cloud"/>
          <p:cNvPicPr/>
          <p:nvPr/>
        </p:nvPicPr>
        <p:blipFill>
          <a:blip r:embed="rId1"/>
          <a:stretch/>
        </p:blipFill>
        <p:spPr>
          <a:xfrm>
            <a:off x="4724280" y="3429000"/>
            <a:ext cx="38768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1d1cb"/>
                </a:solidFill>
                <a:latin typeface="Albertus"/>
              </a:rPr>
              <a:t>Révision</a:t>
            </a:r>
            <a:endParaRPr b="0" lang="en-US" sz="96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67" name="Picture 4" descr="MMAG00300_0000[1]"/>
          <p:cNvPicPr/>
          <p:nvPr/>
        </p:nvPicPr>
        <p:blipFill>
          <a:blip r:embed="rId1"/>
          <a:stretch/>
        </p:blipFill>
        <p:spPr>
          <a:xfrm>
            <a:off x="3276720" y="1357200"/>
            <a:ext cx="2485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45:27Z</dcterms:created>
  <dc:creator>student</dc:creator>
  <dc:description/>
  <dc:language>en-US</dc:language>
  <cp:lastModifiedBy>Diane</cp:lastModifiedBy>
  <dcterms:modified xsi:type="dcterms:W3CDTF">2010-09-13T22:09:16Z</dcterms:modified>
  <cp:revision>19</cp:revision>
  <dc:subject/>
  <dc:title>Color Theory</dc:title>
</cp:coreProperties>
</file>